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C108-C6D2-42FB-B5E3-6A75AFB6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C67-F0F7-4F46-8C2D-F523CF40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58B8-A4E6-43B4-A14A-251990C8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A1A2-A344-4BC3-9180-C0335AB1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C3D-C4DE-48E0-8030-9EDBA2E4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8417-BA9E-4412-AD4B-95B239CF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7D8C-13E3-4EA7-BA1F-315F5ADB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55C9-97FD-44FB-91B1-0C359739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B9BC-E5D4-48A0-950E-06407F04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A97C-DB78-4BCB-9818-7C1EA993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8A7-1527-4535-8666-14333414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0111-1D63-4D08-8990-C13FB83A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40EA-AFA1-46F0-937F-BC626D37E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The EVW </a:t>
            </a:r>
            <a:br>
              <a:rPr sz="6600"/>
            </a:b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  Logistic 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00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924680" cy="4038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" y="4343400"/>
            <a:ext cx="7924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848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77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22:06:20Z</dcterms:modified>
  <cp:revision>44</cp:revision>
  <dc:subject/>
  <dc:title>PowerPoint Presentation</dc:title>
</cp:coreProperties>
</file>